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dt" idx="5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 type="ftr" idx="56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 type="sldNum" idx="57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ACBE-0DE7-4AD2-ADBE-BBD3AFE9433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4357-9682-4232-A5EE-3F4BA01AA39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9CA5-FC79-437C-BBC5-1256E8E437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6F8C-D363-490E-A952-4FFB22EAA0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EA9F-14B5-454D-9724-1D71EACCE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629C-64C6-4599-8578-AED432CE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7E3088-892F-44C6-A1F3-46E19122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AB496-A7FE-4EC9-B01C-4C404D18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24E87-654E-456D-950F-7BC473FB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C96430-1AE3-4E42-943B-60E01932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1EAEC-31DD-4551-9E81-DA4F475F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C92353-E164-4F9B-B391-974FFCC8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2E969-2B9E-47AC-804D-46ADA555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1D85E-16F2-4BFE-B789-761A6520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91071-2CEF-46FB-955E-8D2AF67B6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F3AA38-2CAD-4064-B116-876F8542C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BE00-A9AF-42FE-95FE-0ED469BAE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715A93-EE7A-42C6-A1CD-6C4353FE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5954F6-1F0C-4CC4-A979-F30AB753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D7AAC7-D2A7-4325-A5E3-5E5AE402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59641E-8734-456E-B7F0-733E23BA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230C05-1DF7-4F40-97A8-721BE720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E487F-C0E8-4654-81BB-3320F8ED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1B00F-FF6B-4B56-B6A8-6DB81A04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1183E4-6F8A-4661-A2F5-F0A52184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896F51-E62D-4160-A0C3-488B589E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D1FCD-03E5-4EE9-8AE9-2B823BA02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5C22-387E-4A82-A09E-00EB100E9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D3614-04B2-4C8B-B7C1-F1BB6B5C7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63571-21DD-482F-BEE0-51EEB5826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21847-BB20-40E0-A6AE-21BC0ABF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28374-E388-4847-ADD1-AF613160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A8902-3D39-4951-8BA9-EDB1F9B4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BCAE4-52F5-44AE-825E-DB0ECACA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7CE0E-687A-4B7E-B411-C188BD27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A21AE-1C58-46CE-916B-51C68BC1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C4F8A-CF86-4DF0-A24C-E9DCCB25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18EF8-DF7B-458D-A41C-721919F5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6B34-734F-488A-BBA5-D71222B39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7C8DD-311A-42D8-B4E8-A1086DED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3C11F-6730-419D-B7CB-5E46FF601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87F67-20BE-4906-AA0E-40F7AC57D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331353-CBA4-4096-9E32-C8D257034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A57F6C-D924-418F-B0C7-8AED5FDF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E7961C-0085-4CA4-9937-92364709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9ABC03-1818-4D3E-8485-91E3E01E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0F3D35-6F2A-40F1-90F8-995EA26F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8AE6D1-BA9A-4195-9387-115A0968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816F9E-459B-4D89-B412-757C33FF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C97A-92F4-41D3-9B3F-059103C9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3CB296-3F7A-4AD7-A097-98309FFC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C9EFE8-BD9F-4817-91DD-0634C171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6AA192-094C-4921-9601-730B3BC4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B3E9C-0A67-486B-8F98-F4DFF5F76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C173FE-82C3-4B0C-A513-E55E3AB56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F99742-2353-472E-B277-A583E10E9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B4C5CD-5291-4A1D-840B-111E1D3F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FB46DD-14A1-4384-AB09-9EB766E8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7ED272-316C-4D38-8CB2-AC639C52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C7F96C-37CA-4B97-96F6-6A2A52B7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249A-F833-48ED-ACE4-61038D04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CF97EA-65A2-4531-8C7A-21425017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13BBF9-606F-4BFC-9C37-CBB073E4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86A901-05C3-45B7-9377-BCC01CAB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783E42-2FAA-48EB-8AD4-6F10E92E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0AC658-56F2-436E-8297-583243E2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01A7CA-01A6-4319-B315-BDE996E12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CB4547-8DE2-41DA-94E9-BC16B9880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74FA33-B73F-40C7-94A0-CDF59190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8651CF-17A0-4100-A490-8C101C38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9AC234-3B67-4740-BED9-2E984EEA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B15A-7439-473C-B31D-0C8E2122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4FB62F-44CC-4CD4-AB00-3C96BBB5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1D2EEE-9C53-4E97-823D-AD15805E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F76DA5-11E1-4E1C-843A-033B3CC5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7C27E2-C97D-445B-8F3C-428528D0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39F526-54B1-43E5-8682-99A8F275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738F9C-CD45-45E5-A230-0277B7FB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C6FCB1-1C2B-4C13-BDA3-029EB311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6E810E-981C-49E9-8348-FE9DD3E5A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314FC7-360B-471E-82D5-DBE1AAC04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8BABCE-AB8E-42C6-A742-B1BE2D1E2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ABFA-2B3C-473D-AEC4-7764EC0F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5B9D29-B439-40C8-B44A-F347022F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A385BB-58DB-4344-90DA-F08D00F6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891A7F-A88A-4979-B1F5-9E718AAD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BB20AE-31F8-4168-9257-1EFAD488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0702CD-54FA-4DBA-B486-C1922C65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FFEFFD-0ED8-4C83-8CC2-33F36640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725B06-3376-489B-B1D5-25E748DC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B58A60-DD57-4EA4-A24A-D86D06C3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8DFCC8-0C09-44DE-BC7E-A03245E9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196020-0133-4952-B9B5-2290B84FC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2677-5B3B-4896-BFD9-2B53699A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F3343B-10E0-4E94-9864-1638BB0B1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A14F70-D2F8-4295-B69D-46F38FC2A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73EBC8-1E50-48CA-BDC2-F9EF8155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E1C971-F91C-475A-A901-6023C6A5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A89130-133D-44F7-AD3F-D1FA6CE6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B20524-8658-4F67-AAEE-ED1F30EC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AE3CE6-854B-47E8-BAA4-D94352A1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78E240-83EC-4828-B25D-DE995FC7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050164-DA69-447D-BECB-8BA08AFE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011533-A99E-4DFE-9EB7-3C52DACD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F577-AF3A-414D-A572-13C5CF6E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F7FEA8-B9BD-47D4-ABE4-BAC5CF84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EB80FA-1268-4ECB-904C-21B1E1F27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5910C0-F02C-496C-BD4E-5530E98E9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4339B9-D87A-45B3-BBFF-4CFB35E25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D716E7-3A1F-4820-AAA8-38E32E25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8830D8-B503-4479-B26F-27EAAD66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A7A6AC-2532-44F2-81C9-806A2AAC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A49D21-5A88-42BC-BFE8-C428DA72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2524D2-45CD-4B36-A723-818E6766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672F4F-5A07-4D2B-8663-53676771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9B13-3DBE-45BE-B906-907E1BC8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2CDD-F06C-4239-90E7-6DCAC5CC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DFC576-2EB4-485D-A675-879BD4F4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E28A4A-60EA-44FE-9B26-46EE0251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C87422-B443-43FE-8E37-F5C01A4B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35B99A-9798-45F2-BD6C-52D7D5954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424A9F-C322-4CC5-937B-2C4253021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597180-B296-4D38-B73F-6220DAEBC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0C7B03-3614-423B-AE6E-E5D16FBD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87343E-ECD6-43F6-A47D-80254E50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F1DD92-E848-41C7-A630-DF1F1AB8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676578-5E6B-4E98-91DB-29D26FDC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8128-6A19-4C7E-8C2F-EE6943BF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F6CB79-6C4D-4C07-AD2F-C37AEFE8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F16000-4462-459E-8A48-6A537A60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5A7491-057D-40FF-94DE-169E8D36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DB149A-0A8C-4EF6-988D-EE12C796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528D69-046C-4C9A-9A8C-2DC781A6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59155F-2EBD-42CA-8562-BAE12ED5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2D719A-8A65-4190-B92A-47BD3F12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D77A-7574-4BB4-BE2A-4E348268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8F15-6264-415E-B11B-EA02D7FE9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5C1F-BFCE-456F-8B16-0086D02D8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8DD27-5687-41A8-9D71-E2B07CFEE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65DFA-4DFB-4EDC-B687-40B100D0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8C5C3-FBE2-4D47-80A3-AA99E624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6F2DB-5BE6-4E8E-BA64-40935F81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3A8C8-106E-4800-89FD-78CE19CD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5C54-502D-4891-9793-9A382736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B2A9C-804A-424C-BFAE-299BEC87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91234-77DA-497D-B372-EAB4187B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1DF5C-A8A9-4A0B-9833-C98906EB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71792-1F38-4AD1-A01E-0CAC688B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795F7-D139-439D-BA10-8513BC62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B3558-5EC1-45AA-92DC-6948CAF30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DD919-C8B7-47D0-A93F-7297AD7FF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D6D22-59E5-4444-A080-A7E8E579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7DA07-3C38-4A20-A8D2-7DB64953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AD6B0-1B33-4C30-B206-D4873DED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696F-65E0-48DA-8B02-B7EDA417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5670B-8B15-45F4-88DC-FA816386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1C06F-FC8F-45CA-AA14-A4E6980E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9C2DA-7604-417E-97F5-7FAFD69C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3BA18-B4A4-4294-A5E4-0C0A29F3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ED23F-55B7-4228-AAE4-6E17D7B3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0E9EC-2B4F-4B8B-9E7D-FDDE6F3B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2F766-B6FF-47DF-A315-CEB26979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7636B-8C49-4B00-AB89-71744D19B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42A38-27BE-4EA0-879E-7C64532E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982F6-8441-44E4-95FF-8F472B8DC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57C6-B8A1-4283-A769-DE19E94C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54F80-2B52-4200-866A-178921A6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0A32A-F678-41E8-B96F-2CA5FB2F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A913B-0B9D-4EF1-824D-196E77FA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5C03F-D495-4C30-B447-01E3C282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68FAC-9450-4537-B650-4352B669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DC639-8FD8-4041-A0ED-407886F7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4BE28-07BD-4381-8AF3-C1FA90C0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2EF2A-8BA5-4EC7-BB25-D01D96C8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BDB23-8546-4FFC-A844-000A352A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28D3E-65DB-4243-9EBF-25A9081D2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4878-8448-4930-A18B-F64C3B10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A4D7F-CFA9-4F5A-AB53-F213952B0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4458E-C5C8-44AA-998E-1193CE48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7134C-FF22-4A09-8C8A-C1658F64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1BE71-2A5F-4D0B-A0D6-04882BD1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401BB-3F46-4ED3-9A2B-48E79666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AFA52-C035-4717-AE9C-D0F45FF5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947E7-0DA7-4E14-9944-23E0D79F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08BAE-E2B9-45F8-B92C-56479195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C0B99-F770-4172-B01D-CBBF788F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C629F-BDF1-45AA-A3BD-927E3938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5498-841D-4435-A2FE-C827F851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3FDEA-1E2C-4EAF-BBC2-09945533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74079-6346-423C-B2A2-D660A6E68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D9019-2B52-4986-9DB8-C301AEED3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3E893-FD0D-4EE4-B337-09056F1D8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7958F-3F3F-4D75-BF1C-B1D873DC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13807-8DCE-452B-AD88-1847E584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5CD1D-366B-48F9-8404-6564A106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F5CC9-0D6A-4F28-B8B6-7820F736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6C407-FDC8-4007-BF2C-1E8849FD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4FDA4-8F1B-43FA-AB2A-07C89901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707F-F1A4-4F42-BC4D-09820E0B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542CC-914B-438E-B90C-A5DABE28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892DC-1502-4F5A-8F48-FC4CD1B8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47618-A450-4C2C-8054-9573FBC9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E247C-FC03-4928-AD7C-78DA16991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6007C-1E18-4176-B03D-C6C526C1B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AC44B-2564-4F6B-A613-54D48A8BC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608AD-56A5-4AC9-B8D5-20706620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9D667-72C7-4746-A770-0266C50D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43985-353D-4331-B760-4356D04F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3C81B-C48F-4759-BBE9-FAEEA1E4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716E-D13B-4AC0-AD0A-48614F0C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B0BE1-8A6C-4BF8-B163-B3908592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DB375-CC96-46B4-909B-C15CC202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A45D8-35EE-499C-93A9-8E889CBC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913A4-44B0-49ED-BD52-F00B9C15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78B8F-DDDE-4A10-AC3A-8250E55D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67221-EE30-4A1E-9006-FCA314904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FEEF1-FF15-4A85-8B02-68032F11E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77E99-EE81-49EE-BAE2-E63E1BF04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5A918A-6E1E-4A30-A239-5FCE533E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DF86C-EEF0-4CB8-BF00-41512A3E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1E8B-A62A-4BEC-8F47-461EEBFA1810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0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FF17-8EA1-4FF7-8C84-FA344797F3DE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9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F675-4470-40EF-B070-227C9B07984B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6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5D62-E460-4846-ADC0-23569EB66AC3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16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504" name="TextBox 7"/>
          <p:cNvSpPr/>
          <p:nvPr/>
        </p:nvSpPr>
        <p:spPr>
          <a:xfrm>
            <a:off x="422280" y="71748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Box 8"/>
          <p:cNvSpPr/>
          <p:nvPr/>
        </p:nvSpPr>
        <p:spPr>
          <a:xfrm>
            <a:off x="7736040" y="2751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EE20-5C2F-48F9-9F7C-A7F7FCDCB393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6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40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41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42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B12B-A4EE-44DB-AE66-E3ED16DFBBA6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12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590" name="TextBox 7"/>
          <p:cNvSpPr/>
          <p:nvPr/>
        </p:nvSpPr>
        <p:spPr>
          <a:xfrm>
            <a:off x="422280" y="71748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Box 8"/>
          <p:cNvSpPr/>
          <p:nvPr/>
        </p:nvSpPr>
        <p:spPr>
          <a:xfrm>
            <a:off x="7736040" y="2751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dt" idx="43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ftr" idx="44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 type="sldNum" idx="45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97FF-6329-4DD2-ACDB-732DDD014498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46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ftr" idx="47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sldNum" idx="48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2DC9-8770-474D-89F9-9183CA7AD1C3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6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dt" idx="49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ftr" idx="50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sldNum" idx="51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039B-20D3-4DFB-82A6-25587888A225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6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dt" idx="52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ftr" idx="53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sldNum" idx="54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21D4-285E-41EC-963D-899911B18494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Celestia-R1---OverlayTitleSD.png"/>
          <p:cNvPicPr/>
          <p:nvPr/>
        </p:nvPicPr>
        <p:blipFill>
          <a:blip r:embed="rId3"/>
          <a:stretch/>
        </p:blipFill>
        <p:spPr>
          <a:xfrm>
            <a:off x="0" y="0"/>
            <a:ext cx="73976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7514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742840" y="5870520"/>
            <a:ext cx="39322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0406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464C-6CDE-4B65-8DFE-927473A82B87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2560-26D8-4B38-AD3E-0546CE00992C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BAAC-0E7B-401A-88D1-20955C489199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9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1B94-5874-43D3-9298-2F0DFE54EA9E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2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224C-8FBA-4827-AF48-3DAC955484F3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5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8B14-5213-4664-A18D-7F2282A4D1B3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4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243E-8580-4741-B9AB-30C9D6B6C91D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1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C86D-8F7B-405E-927A-3F8DBCCCB0EE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Rectangle 3" descr=""/>
          <p:cNvPicPr/>
          <p:nvPr/>
        </p:nvPicPr>
        <p:blipFill>
          <a:blip r:embed="rId1"/>
          <a:stretch/>
        </p:blipFill>
        <p:spPr>
          <a:xfrm>
            <a:off x="1268280" y="1255680"/>
            <a:ext cx="8356680" cy="3846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7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Скругленный прямоугольник 3"/>
          <p:cNvSpPr/>
          <p:nvPr/>
        </p:nvSpPr>
        <p:spPr>
          <a:xfrm>
            <a:off x="473040" y="692280"/>
            <a:ext cx="8497800" cy="2232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cap="rnd" w="19080">
            <a:solidFill>
              <a:srgbClr val="7d2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ОХОДЫ  </a:t>
            </a: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+ 111 698,2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ыс.рублей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в том числе за счет безвозмездных поступлений, имеющих целевое назначение </a:t>
            </a: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+ 111 698,2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тыс.рублей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Скругленный прямоугольник 4"/>
          <p:cNvSpPr/>
          <p:nvPr/>
        </p:nvSpPr>
        <p:spPr>
          <a:xfrm>
            <a:off x="468360" y="3716280"/>
            <a:ext cx="8496360" cy="2233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cap="rnd" w="19080">
            <a:solidFill>
              <a:srgbClr val="7d2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АСХОДЫ  </a:t>
            </a: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+ 128 600,2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ыс.рубл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9" name=""/>
          <p:cNvGraphicFramePr/>
          <p:nvPr/>
        </p:nvGraphicFramePr>
        <p:xfrm>
          <a:off x="179280" y="1093680"/>
          <a:ext cx="8713800" cy="5434200"/>
        </p:xfrm>
        <a:graphic>
          <a:graphicData uri="http://schemas.openxmlformats.org/drawingml/2006/table">
            <a:tbl>
              <a:tblPr/>
              <a:tblGrid>
                <a:gridCol w="4135680"/>
                <a:gridCol w="2921040"/>
                <a:gridCol w="1657080"/>
              </a:tblGrid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ремон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c3ec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режд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c3ec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ма расход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c3ec1"/>
                    </a:solidFill>
                  </a:tcPr>
                </a:tc>
              </a:tr>
              <a:tr h="4446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монт кровел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c3ec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 шко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e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 3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ee9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детских сад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8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5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8f4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клуб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e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3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ee9"/>
                    </a:solidFill>
                  </a:tcPr>
                </a:tc>
              </a:tr>
              <a:tr h="50472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мена окон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c3ec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 школ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8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 2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8f4"/>
                    </a:solidFill>
                  </a:tcPr>
                </a:tc>
              </a:tr>
              <a:tr h="50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детский са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e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ee9"/>
                    </a:solidFill>
                  </a:tcPr>
                </a:tc>
              </a:tr>
              <a:tr h="36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клуб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8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 4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8f4"/>
                    </a:solidFill>
                  </a:tcPr>
                </a:tc>
              </a:tr>
              <a:tr h="576360">
                <a:tc>
                  <a:txBody>
                    <a:bodyPr lIns="9360" rIns="9360" tIns="9360" bIns="0" anchor="ctr">
                      <a:noAutofit/>
                    </a:bodyPr>
                    <a:p>
                      <a:pPr lvl="2" marL="914400">
                        <a:lnSpc>
                          <a:spcPct val="100000"/>
                        </a:lnSpc>
                        <a:tabLst>
                          <a:tab algn="l" pos="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ОГО :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c3ec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61 учрежд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e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84 6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ee9"/>
                    </a:solidFill>
                  </a:tcPr>
                </a:tc>
              </a:tr>
              <a:tr h="390600"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полагаемые источники финансирования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c3ec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бсидии из УР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c3ec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e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 4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ee9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едит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c3ec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8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8f4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нергосервис (на 5 лет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c3ec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e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 7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ee9"/>
                    </a:solidFill>
                  </a:tcPr>
                </a:tc>
              </a:tr>
            </a:tbl>
          </a:graphicData>
        </a:graphic>
      </p:graphicFrame>
      <p:sp>
        <p:nvSpPr>
          <p:cNvPr id="770" name="Rectangle 2"/>
          <p:cNvSpPr/>
          <p:nvPr/>
        </p:nvSpPr>
        <p:spPr>
          <a:xfrm>
            <a:off x="565200" y="144360"/>
            <a:ext cx="80661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alibri Light"/>
              </a:rPr>
              <a:t>Расходы бюджета на капитальные ремонты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alibri Light"/>
              </a:rPr>
              <a:t>объектов социальной сферы в 2019 год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1" name="Прямоугольник 7"/>
          <p:cNvGrpSpPr/>
          <p:nvPr/>
        </p:nvGrpSpPr>
        <p:grpSpPr>
          <a:xfrm>
            <a:off x="7759800" y="841320"/>
            <a:ext cx="1218960" cy="322200"/>
            <a:chOff x="7759800" y="841320"/>
            <a:chExt cx="1218960" cy="322200"/>
          </a:xfrm>
        </p:grpSpPr>
        <p:pic>
          <p:nvPicPr>
            <p:cNvPr id="772" name="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7759800" y="841320"/>
              <a:ext cx="121896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>
              <a:off x="7775640" y="855720"/>
              <a:ext cx="118908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Calibri"/>
                </a:rPr>
                <a:t>Тыс.рублей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4" name=""/>
          <p:cNvGraphicFramePr/>
          <p:nvPr/>
        </p:nvGraphicFramePr>
        <p:xfrm>
          <a:off x="179280" y="1125360"/>
          <a:ext cx="8785440" cy="4707000"/>
        </p:xfrm>
        <a:graphic>
          <a:graphicData uri="http://schemas.openxmlformats.org/drawingml/2006/table">
            <a:tbl>
              <a:tblPr/>
              <a:tblGrid>
                <a:gridCol w="5091120"/>
                <a:gridCol w="3694320"/>
              </a:tblGrid>
              <a:tr h="1581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c3ec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ЮДЖЕТ МУНИЦИПАЛЬНОГО ОБРАЗОВАНИЯ «МОЖГИНСКИЙ РАЙОН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9 г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c3ec1"/>
                    </a:solidFill>
                  </a:tcPr>
                </a:tc>
              </a:tr>
              <a:tr h="650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ХОДЫ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c3ec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9 018,2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ee9"/>
                    </a:solidFill>
                  </a:tcPr>
                </a:tc>
              </a:tr>
              <a:tr h="650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ом числе за счет за счет поступления безвозмездных поступлени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c3ec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3 248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8f4"/>
                    </a:solidFill>
                  </a:tcPr>
                </a:tc>
              </a:tr>
              <a:tr h="1027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СХОДЫ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c3ec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5 920,2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ee9"/>
                    </a:solidFill>
                  </a:tcPr>
                </a:tc>
              </a:tr>
              <a:tr h="796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ФИЦИТ(-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c3ec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6 902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8f4"/>
                    </a:solidFill>
                  </a:tcPr>
                </a:tc>
              </a:tr>
            </a:tbl>
          </a:graphicData>
        </a:graphic>
      </p:graphicFrame>
      <p:sp>
        <p:nvSpPr>
          <p:cNvPr id="775" name="Rectangle 2"/>
          <p:cNvSpPr/>
          <p:nvPr/>
        </p:nvSpPr>
        <p:spPr>
          <a:xfrm>
            <a:off x="565200" y="144360"/>
            <a:ext cx="806616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Calibri Light"/>
              </a:rPr>
              <a:t>Уточненные параметры бюджета на 2019 год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6" name="Прямоугольник 7"/>
          <p:cNvGrpSpPr/>
          <p:nvPr/>
        </p:nvGrpSpPr>
        <p:grpSpPr>
          <a:xfrm>
            <a:off x="7759800" y="841320"/>
            <a:ext cx="1218960" cy="322200"/>
            <a:chOff x="7759800" y="841320"/>
            <a:chExt cx="1218960" cy="322200"/>
          </a:xfrm>
        </p:grpSpPr>
        <p:pic>
          <p:nvPicPr>
            <p:cNvPr id="777" name="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7759800" y="841320"/>
              <a:ext cx="121896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8" name=""/>
            <p:cNvSpPr/>
            <p:nvPr/>
          </p:nvSpPr>
          <p:spPr>
            <a:xfrm>
              <a:off x="7775640" y="855720"/>
              <a:ext cx="118908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Calibri"/>
                </a:rPr>
                <a:t>Тыс.рублей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9" name=""/>
          <p:cNvGraphicFramePr/>
          <p:nvPr/>
        </p:nvGraphicFramePr>
        <p:xfrm>
          <a:off x="324000" y="907920"/>
          <a:ext cx="8569080" cy="3800520"/>
        </p:xfrm>
        <a:graphic>
          <a:graphicData uri="http://schemas.openxmlformats.org/drawingml/2006/table">
            <a:tbl>
              <a:tblPr/>
              <a:tblGrid>
                <a:gridCol w="7511760"/>
                <a:gridCol w="1057320"/>
              </a:tblGrid>
              <a:tr h="890640">
                <a:tc gridSpan="2"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ТОЧНИКИ ФИНАНСИРОВАНИЯ ДЕФИЦИТА БЮДЖЕТ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3160">
                <a:tc>
                  <a:txBody>
                    <a:bodyPr lIns="3600" rIns="3600" tIns="3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ЕФИЦИТ БЮДЖЕ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6 9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15760">
                <a:tc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ьшение остатков на счете бюджета по состояни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1 января 2019 г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" rIns="3600" tIns="36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401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49520">
                <a:tc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кредитов от кредитных организаций в 2019 год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" rIns="3600" tIns="36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 3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01440">
                <a:tc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гашение бюджетных кредитов в 2019 год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" rIns="3600" tIns="36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25 799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06:47:21Z</dcterms:created>
  <dc:creator>User</dc:creator>
  <dc:description/>
  <dc:language>en-US</dc:language>
  <cp:lastModifiedBy>ЗаглядинаСК</cp:lastModifiedBy>
  <cp:lastPrinted>2016-11-11T10:35:51Z</cp:lastPrinted>
  <dcterms:modified xsi:type="dcterms:W3CDTF">2019-04-02T10:59:28Z</dcterms:modified>
  <cp:revision>681</cp:revision>
  <dc:subject/>
  <dc:title>Слайд 1</dc:title>
</cp:coreProperties>
</file>