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1"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move the slide</a:t>
            </a:r>
            <a:endParaRPr b="0" lang="en-US" sz="3200" spc="-1" strike="noStrike">
              <a:solidFill>
                <a:srgbClr val="ffffff"/>
              </a:solidFill>
              <a:latin typeface="Calibri Light"/>
            </a:endParaRPr>
          </a:p>
        </p:txBody>
      </p:sp>
      <p:sp>
        <p:nvSpPr>
          <p:cNvPr id="76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4"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5"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B712-DE7A-4E44-94E1-4B8236C7568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BAE6-FE38-43B1-AED1-F11AE9D4E44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89E5-1590-4A54-92BA-3B96636944C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06E25-28A4-4677-8EAB-12B2815D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5967F-F1EA-4391-88A5-89AE2116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4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05011-129D-4D7C-8686-17330364F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9B67CB-274D-4457-AD6E-F1ADBD075D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451AC0-C36F-48CE-BF57-DD8464220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8F7ED-C091-4403-85F3-B7703C4E4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CBF80-F5B5-42E4-8F23-4DBE44D78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B092CC-9AEC-48AD-A7B8-91C227F01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C6809-8BD3-4395-A276-E01C97728D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A97D38-7967-48A0-9715-259B7632FD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7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1CC44A-1D54-451B-8473-F16BBE606E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F3AD9C-CB41-4937-8D83-D790212976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1989-0138-4B70-8F19-F7741211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8CA382-6D5B-432E-8800-759707F63E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618F97-F56E-4238-9BA6-CE1C3D03D4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8E6643-31A0-40CC-A6EE-1461CE80D6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6AB7BD-E78B-4083-899F-44A179E6DD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7A3CA1-2FCD-4394-8095-3423AF2955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4EE76D-F81B-461B-8288-C4AF24382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F604B6-C552-4A23-82C3-0BEDE696FA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870C5A-208A-4DCE-A9D3-30088F9193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1DB407-C8B5-458A-BAB0-C50CB18CE8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7EEA5A-1B4C-4D50-BD5C-D678070F7B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86E76-FBB8-45E9-AA02-2F4208D99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1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17B1D8-9056-4233-B4B9-D66A3C1A55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8274B9-FC74-4DE2-A2ED-46297A7771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08560F-C6BF-48C2-8C8F-502E8FD41A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A1AC76-DE2F-4D58-AAE6-67208C56E0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24505F-6A4D-4EA4-BDF3-2B7CC3ADDA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DBDEA5-B9A8-4A65-AFB4-150B1F9FFF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260D69-7C2F-4263-ADD5-F73DA404DF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F1F292-1809-4E29-92C0-2FD28D9009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431601-E2B3-4AB0-83AD-B4F2ED67C7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00A12D-FEA9-49CE-9284-D92A14E9F7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5B861-428F-4328-A7A1-70004D617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E46358-0821-443F-9977-0358753F82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0B75E6-F674-40AE-801B-A7FF3A6264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FA30D1-C422-44E9-9712-0EE3FCEC2E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FF5E46-5EE1-4A02-9D6D-1478E4BC27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6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03DF6A-A879-4FA0-A5D1-727809486C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126690-1A4D-4B42-BB5C-1B4F37D266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424E32-D28A-4E2C-BDEF-0C5DD5A7C1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B15E02-C475-420B-A6D2-2F879FB7F9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6CD206-4467-4BA6-8C4F-79FD55503C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1244B3-05AC-4944-9C2D-2B055EAE73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1DC2E-7208-4DD7-B121-7BFDB76C7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1893EC-121E-425B-98CF-5C62565F88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57FECC-DABE-4461-9375-8B4AFA2FAB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3CFC52-910B-457B-BB37-CEBE370916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567D1A-A1A3-4EF8-AA0B-2968D070F9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8021C3-208A-453C-80EF-2EEB1E1FD9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844AAD-6EE8-4623-BF4D-358836899A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BC2090-344B-4506-B6DD-047D33DF74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CB6F65-5516-4B6C-9B5F-A627F4E970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ACBEAD-EFA1-4F32-B2E0-9E0F15EFB5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E6209E-B81E-4447-8D75-0E8A9A7739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85388-4239-446E-AB36-A77486676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E2A5BA-368D-416A-907C-44D1D2655F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2F6EF4-9F5C-4FF0-9477-7FB4855528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6FFF23-9B64-44A8-AA37-649D48EC57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C260E8-E48D-4E09-B57B-B505DF4E6A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C86E67-BF1A-4D35-834B-B1F8F9B80E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6F69E5-586B-4752-A8C4-FC041989BD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4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479BAE8-B5AD-4F8A-96AE-EEACCC87A2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2E5BC6-97B9-4315-BF7D-E9B3404D06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F3DF85-8689-4EF1-B1C3-AA219D1B67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093471-FF7D-4B71-A34E-34519C4165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72743-0F87-486C-BBC9-35E4A2CB7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5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1FDA9E-2140-42AD-9064-5CBF440FCB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AE2AD6-A2D3-4CE8-A9AF-869AE9FFF1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7B8A51-1578-4CE5-BADB-772C2D4F00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002D7E-DFFB-4982-A0FA-1518A91851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361BBD-D791-479B-9161-97F9881F22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7F1F09-3C96-4DD7-8B57-C77E10FB75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954BA0-993C-45FC-B649-962641E3C6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7B3A44D-3251-40F6-B86C-5FE4C8FEBC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8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9316F0-A20A-4F14-AEAB-19A79E73A1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44D259E-2C96-43EE-938B-9AABBAD69C1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4509D-6E5A-491C-B9BF-E3F0BA41C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9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0A087A-F292-4B78-83A4-B27D8C2BCC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625FA0-5D00-4B06-9F81-4A04A1FFD7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015966-9183-4179-9667-DED5155421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AEB6D3-3F65-48FE-9B8B-7350B61865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D210BB-B776-4299-A3BA-D2DE064B81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06D86D-4273-4F43-9A19-ABDE93BE55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7E0489-C90B-4118-99B4-BF775620E8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94C087-E830-4178-8D42-904DDB1F8F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7EBB5D-44D3-45D3-8663-24D92D15C0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EC8DED7-40DB-4F79-9BAE-0F8BDD43D9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D003C-99AC-4D96-8619-2D4E1A960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722602-73EC-4198-A651-4F0098411A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063D48-DA1F-4007-BF04-297C8D0F3F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BB6A80-C371-4E42-8567-0DE3539283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811E8B-D0C2-45F4-8945-6C0E807759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4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ECC9C2-8B0F-4EDA-94E1-FCBB3BC336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5AD218-9EF6-4F5D-99E3-C81E1FA493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17FBC3-7BE2-4EA9-86C4-6327A40F20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0F38D6-6A1D-402F-BCB5-2C3803A5E1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1D3429-1FEF-4F64-AE31-35FCDB6186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2D2647-B211-4441-8F0A-008989772B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41A5-AF65-4309-A209-98F7B425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4535E4-DBBB-4F13-9332-6864532C06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F97F94-467B-44D2-B788-CCE280564F7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49E2077-8146-4D68-8C40-1D104BB77A9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091D49C-355D-4061-8D36-46A1F149852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B43259-69DD-42F0-907C-406840E764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74C20F-6FB6-48BE-A10F-3DF7715460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06C645-EF90-4DE0-AB85-BDFE26BC70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3C52BE-B3F5-44E8-A95C-46A8A30177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162362-8D9E-49A9-824F-4156D58C48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20CBF8-69A3-4FA3-852F-8122368D65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FDE1-FFE0-4AA0-979E-B3D8417D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9FAEC-A9C0-4BA3-9F2A-9B2619A3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BA4EB7-2025-4B9A-8478-0CC439780D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FA2ABA-B8F7-4363-B9C9-20D7990D06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AAD319-4FDD-4461-B3E0-6274BF5DEB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354FC51-148F-420D-B481-D7AA3B94646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1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937FD07-0EDB-40DA-BE84-4F4EF7C5913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DCE23F-874B-429A-982F-1F917C80CD0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5ACBAC5-DD7D-49B3-AD30-AC10415CF1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67AEE2-DA01-4EFE-A67B-78DD990D0C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2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B0CCA9-3FBC-45BC-A294-E7D30EA0F89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C57422-85F2-47CD-86BF-28B4BF3A4D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92056-4500-4693-B70B-DB433901E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EF84D0-1AB7-4F64-B691-6FAB0EBB201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7E02BF-BF49-4D22-8649-B553B90731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4DF132-CDDF-4BEE-B34F-C0AD999E56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C06920-3F2C-4515-8DC6-1B5858B4B3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20038AA-5CCB-4492-9BB7-C3249FB16A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140BF00-5054-407B-AC05-C58853F5F7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5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326A698-1729-4A54-A507-776A066DD88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1959-6E51-43E4-8447-DA56003CE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90394-8D27-4FC8-918A-A977DF04A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57DCC-FE05-47FC-92BC-939FC43F8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E9676-78B7-4AD5-B8C5-5E96E8568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D1A16-12B4-4DB6-AE14-2DB7FC586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798F2-5581-46CD-9603-6BED93EB1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07CBA-5282-4188-978D-89A1E2275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DB2B5-0B67-496A-8992-F6B597963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6260-DC9E-43A1-B1A6-9F1C93E72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D4EF3-2B95-4AC4-AB13-AA6BC45B1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972BE-5610-48B5-B3F4-BF48EE2E7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964E0-58E4-42C4-B8EB-F8E29CA24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A643C-6837-419E-9F53-CFAFD98CC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B29E9-BD94-49D7-9D7F-BE0A061D1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B51D6-7417-4823-AEC4-298958DE9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0E307-A502-4D2D-8FF9-852CD25E61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482DC4-CD4D-42E9-8807-01B9C8812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CEE16-697D-4FC4-804F-527D8749D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593D6-613C-4930-BE5F-3AE2234FE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21C76-673D-4A7F-9B62-82D69BD2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E6CFD-BDB9-45CB-8903-DA8C6892D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566D2E-AD05-49B7-B079-5C6B652BD1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938BC-662A-4EBC-AD58-74E0E1747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7F4C9-C8BB-4484-A8B8-1F675F254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070B7-5D8A-4C06-8B24-5BDEF11E0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C8807-74C9-4D66-BBD6-750150FF4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29EC3-CB10-4E72-8F61-A9ED14B3C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621834-69C5-4C6B-A3AA-E41B2377EB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6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40DD8-943C-447B-B62F-974586BA62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2E540-E75B-4764-87A5-CE4B9A5700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F68E-EE9F-42A6-B9AF-9D657BD49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EBA1B-F97B-4CB9-A2E8-E3BAB67AA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268327-FCBE-4201-BD07-0D9FC0198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E9C21-B0D2-43DF-AD9D-130BFE305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954689-99DA-462C-8DB8-5BACD4212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F375A-64A3-4253-9F49-2FB436CE0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A52AF-1712-4755-AB2B-BCD395966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D8E61-A748-400B-88D6-2EFC32BBC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CD297-E09A-490A-A598-5FED84F73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08D91A-AF03-40D1-A350-3214E7C15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3E487D-CDF0-463C-BEC6-EED71B0D3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3E95-780F-4A7A-9240-7F9E41FE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0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8D36C-9BA5-4407-B111-825FEE689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C26D31-AA1F-4D05-A2FB-2437DEBB20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59716-7D88-47AB-9E4E-26B62F783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9D053-A945-4223-A0D0-5910F1C54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8CC02-FB64-4B4D-A5CE-F1819395D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7AE6C-0904-4C05-9937-1C3F812C8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984BD-B87F-447E-AB8E-507E3C895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4A81A-C007-4EAB-993A-FCDE796E4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CCA63-E7D0-4EE2-9545-03058A509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25839-A82B-4E47-A1C4-97A34FE0E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D8FD-0898-4E57-BE52-6ACD8155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9E8E01-B072-415E-A8BC-CC5F999E4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998BE7-09F0-4845-865E-B81FD9CF73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676037-9693-4E09-AF2D-10A7C5E8B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4F75F-C2A9-4EE9-ADC2-7C66821515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5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02E7D-45C8-4E19-9C8C-9D440178B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7120B-F778-4405-B4E1-02C87C933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A2F6E-C573-478E-91EB-83126ED95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832D1-B09C-4B1E-B95D-CF8492DB2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BC750-FE23-44B8-92AE-B0B204E94D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434ED-630F-4B5E-9415-52E0E4C82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BB82-3E82-40AF-A68E-C3E9D2456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1279C-EF36-425E-A260-3B67E29DE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C88FD8-AA40-40DB-B747-E1F4AA5A1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4B0DE-EBE0-499D-9390-40DC2ECA1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34F464-19BB-4729-84FA-3AB8DC188C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E14598-8046-4F44-9719-BC051938EB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6E9E46-B84C-4C40-B0C4-78C905C5F1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CBB90-AE6C-4593-8E19-B674CC89C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0E97E0-0B57-4147-9382-4737701B91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0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9CB81-CDC4-4827-9166-D641B7771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D34CE-25BC-4156-905C-3102D7096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224D-0D8F-418C-B4A3-22E1A006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98C012-1EBE-4B73-8EAE-AF248437F4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CE1E6-FB12-448F-9B0A-4E3AF29EC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8EDA1-F15B-4024-BDFA-DAD2AC580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9AB74-E558-4659-BC07-1DA27E429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7AFD2-670F-4824-8327-A8C219309E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14FD98-14E8-4EFE-B05C-0D8E81E944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422EF4-7749-44C5-9EC6-B122CECCCE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506B7C-0F7D-4385-8088-325245FDDF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5AC26-2020-4FC4-9ACE-4267B308AC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0D248-F9F3-4497-AEF7-0D19CB804D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 name="PlaceHolder 3"/>
          <p:cNvSpPr>
            <a:spLocks noGrp="1"/>
          </p:cNvSpPr>
          <p:nvPr>
            <p:ph type="dt" idx="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F68B-137A-4ECA-B560-73170135A27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10" descr="Celestia-R1---OverlayContentSD.png"/>
          <p:cNvPicPr/>
          <p:nvPr/>
        </p:nvPicPr>
        <p:blipFill>
          <a:blip r:embed="rId3"/>
          <a:stretch/>
        </p:blipFill>
        <p:spPr>
          <a:xfrm>
            <a:off x="14400" y="0"/>
            <a:ext cx="9118440" cy="6858000"/>
          </a:xfrm>
          <a:prstGeom prst="rect">
            <a:avLst/>
          </a:prstGeom>
          <a:ln w="0">
            <a:noFill/>
          </a:ln>
        </p:spPr>
      </p:pic>
      <p:sp>
        <p:nvSpPr>
          <p:cNvPr id="3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7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80" name="PlaceHolder 3"/>
          <p:cNvSpPr>
            <a:spLocks noGrp="1"/>
          </p:cNvSpPr>
          <p:nvPr>
            <p:ph type="dt" idx="28"/>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4"/>
          <p:cNvSpPr>
            <a:spLocks noGrp="1"/>
          </p:cNvSpPr>
          <p:nvPr>
            <p:ph type="ftr" idx="29"/>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82" name="PlaceHolder 5"/>
          <p:cNvSpPr>
            <a:spLocks noGrp="1"/>
          </p:cNvSpPr>
          <p:nvPr>
            <p:ph type="sldNum" idx="30"/>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E3EC-A544-4ADD-B9FC-05E181DF4C72}"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9" descr="Celestia-R1---OverlayContentSD.png"/>
          <p:cNvPicPr/>
          <p:nvPr/>
        </p:nvPicPr>
        <p:blipFill>
          <a:blip r:embed="rId3"/>
          <a:stretch/>
        </p:blipFill>
        <p:spPr>
          <a:xfrm>
            <a:off x="14400" y="0"/>
            <a:ext cx="9118440" cy="6858000"/>
          </a:xfrm>
          <a:prstGeom prst="rect">
            <a:avLst/>
          </a:prstGeom>
          <a:ln w="0">
            <a:noFill/>
          </a:ln>
        </p:spPr>
      </p:pic>
      <p:sp>
        <p:nvSpPr>
          <p:cNvPr id="4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2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22" name="PlaceHolder 3"/>
          <p:cNvSpPr>
            <a:spLocks noGrp="1"/>
          </p:cNvSpPr>
          <p:nvPr>
            <p:ph type="dt" idx="3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PlaceHolder 4"/>
          <p:cNvSpPr>
            <a:spLocks noGrp="1"/>
          </p:cNvSpPr>
          <p:nvPr>
            <p:ph type="ftr" idx="3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24" name="PlaceHolder 5"/>
          <p:cNvSpPr>
            <a:spLocks noGrp="1"/>
          </p:cNvSpPr>
          <p:nvPr>
            <p:ph type="sldNum" idx="3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E11F-6545-49AA-B1E9-4585EA562F22}"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1" name="Picture 6" descr="Celestia-R1---OverlayContentSD.png"/>
          <p:cNvPicPr/>
          <p:nvPr/>
        </p:nvPicPr>
        <p:blipFill>
          <a:blip r:embed="rId3"/>
          <a:stretch/>
        </p:blipFill>
        <p:spPr>
          <a:xfrm>
            <a:off x="14400" y="0"/>
            <a:ext cx="9118440" cy="6858000"/>
          </a:xfrm>
          <a:prstGeom prst="rect">
            <a:avLst/>
          </a:prstGeom>
          <a:ln w="0">
            <a:noFill/>
          </a:ln>
        </p:spPr>
      </p:pic>
      <p:sp>
        <p:nvSpPr>
          <p:cNvPr id="4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6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64" name="PlaceHolder 3"/>
          <p:cNvSpPr>
            <a:spLocks noGrp="1"/>
          </p:cNvSpPr>
          <p:nvPr>
            <p:ph type="dt" idx="34"/>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4"/>
          <p:cNvSpPr>
            <a:spLocks noGrp="1"/>
          </p:cNvSpPr>
          <p:nvPr>
            <p:ph type="ftr" idx="35"/>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6" name="PlaceHolder 5"/>
          <p:cNvSpPr>
            <a:spLocks noGrp="1"/>
          </p:cNvSpPr>
          <p:nvPr>
            <p:ph type="sldNum" idx="36"/>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5EA4-BA85-48A5-9ED4-AF3A0549115C}"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3" name="Picture 16" descr="Celestia-R1---OverlayContentSD.png"/>
          <p:cNvPicPr/>
          <p:nvPr/>
        </p:nvPicPr>
        <p:blipFill>
          <a:blip r:embed="rId3"/>
          <a:stretch/>
        </p:blipFill>
        <p:spPr>
          <a:xfrm>
            <a:off x="14400" y="0"/>
            <a:ext cx="9118440" cy="6858000"/>
          </a:xfrm>
          <a:prstGeom prst="rect">
            <a:avLst/>
          </a:prstGeom>
          <a:ln w="0">
            <a:noFill/>
          </a:ln>
        </p:spPr>
      </p:pic>
      <p:sp>
        <p:nvSpPr>
          <p:cNvPr id="504"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5"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0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08" name="PlaceHolder 3"/>
          <p:cNvSpPr>
            <a:spLocks noGrp="1"/>
          </p:cNvSpPr>
          <p:nvPr>
            <p:ph type="dt" idx="3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4"/>
          <p:cNvSpPr>
            <a:spLocks noGrp="1"/>
          </p:cNvSpPr>
          <p:nvPr>
            <p:ph type="ftr" idx="3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10" name="PlaceHolder 5"/>
          <p:cNvSpPr>
            <a:spLocks noGrp="1"/>
          </p:cNvSpPr>
          <p:nvPr>
            <p:ph type="sldNum" idx="3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DC09-4999-4CD1-92CB-1AD05D6DC419}"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7" name="Picture 6" descr="Celestia-R1---OverlayContentSD.png"/>
          <p:cNvPicPr/>
          <p:nvPr/>
        </p:nvPicPr>
        <p:blipFill>
          <a:blip r:embed="rId3"/>
          <a:stretch/>
        </p:blipFill>
        <p:spPr>
          <a:xfrm>
            <a:off x="14400" y="0"/>
            <a:ext cx="9118440" cy="6858000"/>
          </a:xfrm>
          <a:prstGeom prst="rect">
            <a:avLst/>
          </a:prstGeom>
          <a:ln w="0">
            <a:noFill/>
          </a:ln>
        </p:spPr>
      </p:pic>
      <p:sp>
        <p:nvSpPr>
          <p:cNvPr id="5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4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50" name="PlaceHolder 3"/>
          <p:cNvSpPr>
            <a:spLocks noGrp="1"/>
          </p:cNvSpPr>
          <p:nvPr>
            <p:ph type="dt" idx="4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4"/>
          <p:cNvSpPr>
            <a:spLocks noGrp="1"/>
          </p:cNvSpPr>
          <p:nvPr>
            <p:ph type="ftr" idx="4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52" name="PlaceHolder 5"/>
          <p:cNvSpPr>
            <a:spLocks noGrp="1"/>
          </p:cNvSpPr>
          <p:nvPr>
            <p:ph type="sldNum" idx="4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556F-8F71-4A7F-8064-5EBB042ECD6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12" descr="Celestia-R1---OverlayContentSD.png"/>
          <p:cNvPicPr/>
          <p:nvPr/>
        </p:nvPicPr>
        <p:blipFill>
          <a:blip r:embed="rId3"/>
          <a:stretch/>
        </p:blipFill>
        <p:spPr>
          <a:xfrm>
            <a:off x="14400" y="0"/>
            <a:ext cx="9118440" cy="6858000"/>
          </a:xfrm>
          <a:prstGeom prst="rect">
            <a:avLst/>
          </a:prstGeom>
          <a:ln w="0">
            <a:noFill/>
          </a:ln>
        </p:spPr>
      </p:pic>
      <p:sp>
        <p:nvSpPr>
          <p:cNvPr id="590"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1"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9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94" name="PlaceHolder 3"/>
          <p:cNvSpPr>
            <a:spLocks noGrp="1"/>
          </p:cNvSpPr>
          <p:nvPr>
            <p:ph type="dt" idx="4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4"/>
          <p:cNvSpPr>
            <a:spLocks noGrp="1"/>
          </p:cNvSpPr>
          <p:nvPr>
            <p:ph type="ftr" idx="4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96" name="PlaceHolder 5"/>
          <p:cNvSpPr>
            <a:spLocks noGrp="1"/>
          </p:cNvSpPr>
          <p:nvPr>
            <p:ph type="sldNum" idx="4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59C8-ED84-4527-9F33-2D1DC6569F71}"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3" name="Picture 7" descr="Celestia-R1---OverlayContentSD.png"/>
          <p:cNvPicPr/>
          <p:nvPr/>
        </p:nvPicPr>
        <p:blipFill>
          <a:blip r:embed="rId3"/>
          <a:stretch/>
        </p:blipFill>
        <p:spPr>
          <a:xfrm>
            <a:off x="14400" y="0"/>
            <a:ext cx="9118440" cy="6858000"/>
          </a:xfrm>
          <a:prstGeom prst="rect">
            <a:avLst/>
          </a:prstGeom>
          <a:ln w="0">
            <a:noFill/>
          </a:ln>
        </p:spPr>
      </p:pic>
      <p:sp>
        <p:nvSpPr>
          <p:cNvPr id="6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3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36" name="PlaceHolder 3"/>
          <p:cNvSpPr>
            <a:spLocks noGrp="1"/>
          </p:cNvSpPr>
          <p:nvPr>
            <p:ph type="dt" idx="4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type="ftr" idx="4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38" name="PlaceHolder 5"/>
          <p:cNvSpPr>
            <a:spLocks noGrp="1"/>
          </p:cNvSpPr>
          <p:nvPr>
            <p:ph type="sldNum" idx="4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7BDD-4E4D-460E-A000-67CA568A4307}"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5" name="Picture 6" descr="Celestia-R1---OverlayContentSD.png"/>
          <p:cNvPicPr/>
          <p:nvPr/>
        </p:nvPicPr>
        <p:blipFill>
          <a:blip r:embed="rId3"/>
          <a:stretch/>
        </p:blipFill>
        <p:spPr>
          <a:xfrm>
            <a:off x="14400" y="0"/>
            <a:ext cx="9118440" cy="6858000"/>
          </a:xfrm>
          <a:prstGeom prst="rect">
            <a:avLst/>
          </a:prstGeom>
          <a:ln w="0">
            <a:noFill/>
          </a:ln>
        </p:spPr>
      </p:pic>
      <p:sp>
        <p:nvSpPr>
          <p:cNvPr id="6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7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78" name="PlaceHolder 3"/>
          <p:cNvSpPr>
            <a:spLocks noGrp="1"/>
          </p:cNvSpPr>
          <p:nvPr>
            <p:ph type="dt" idx="4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4"/>
          <p:cNvSpPr>
            <a:spLocks noGrp="1"/>
          </p:cNvSpPr>
          <p:nvPr>
            <p:ph type="ftr" idx="5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80" name="PlaceHolder 5"/>
          <p:cNvSpPr>
            <a:spLocks noGrp="1"/>
          </p:cNvSpPr>
          <p:nvPr>
            <p:ph type="sldNum" idx="5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6E5B-A3DB-40FB-9884-D3F259A1E4BE}"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7" name="Picture 6" descr="Celestia-R1---OverlayContentSD.png"/>
          <p:cNvPicPr/>
          <p:nvPr/>
        </p:nvPicPr>
        <p:blipFill>
          <a:blip r:embed="rId3"/>
          <a:stretch/>
        </p:blipFill>
        <p:spPr>
          <a:xfrm>
            <a:off x="14400" y="0"/>
            <a:ext cx="9118440" cy="6858000"/>
          </a:xfrm>
          <a:prstGeom prst="rect">
            <a:avLst/>
          </a:prstGeom>
          <a:ln w="0">
            <a:noFill/>
          </a:ln>
        </p:spPr>
      </p:pic>
      <p:sp>
        <p:nvSpPr>
          <p:cNvPr id="7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71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720" name="PlaceHolder 3"/>
          <p:cNvSpPr>
            <a:spLocks noGrp="1"/>
          </p:cNvSpPr>
          <p:nvPr>
            <p:ph type="dt" idx="5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PlaceHolder 4"/>
          <p:cNvSpPr>
            <a:spLocks noGrp="1"/>
          </p:cNvSpPr>
          <p:nvPr>
            <p:ph type="ftr" idx="5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722" name="PlaceHolder 5"/>
          <p:cNvSpPr>
            <a:spLocks noGrp="1"/>
          </p:cNvSpPr>
          <p:nvPr>
            <p:ph type="sldNum" idx="5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89B1-8A86-4B58-8B66-A2CF0D2603C3}"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Celestia-R1---OverlayTitleSD.png"/>
          <p:cNvPicPr/>
          <p:nvPr/>
        </p:nvPicPr>
        <p:blipFill>
          <a:blip r:embed="rId3"/>
          <a:stretch/>
        </p:blipFill>
        <p:spPr>
          <a:xfrm>
            <a:off x="0" y="0"/>
            <a:ext cx="7397640" cy="6858000"/>
          </a:xfrm>
          <a:prstGeom prst="rect">
            <a:avLst/>
          </a:prstGeom>
          <a:ln w="0">
            <a:noFill/>
          </a:ln>
        </p:spPr>
      </p:pic>
      <p:sp>
        <p:nvSpPr>
          <p:cNvPr id="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4" name="PlaceHolder 3"/>
          <p:cNvSpPr>
            <a:spLocks noGrp="1"/>
          </p:cNvSpPr>
          <p:nvPr>
            <p:ph type="dt" idx="4"/>
          </p:nvPr>
        </p:nvSpPr>
        <p:spPr>
          <a:xfrm>
            <a:off x="67514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742840" y="5870520"/>
            <a:ext cx="39322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 name="PlaceHolder 5"/>
          <p:cNvSpPr>
            <a:spLocks noGrp="1"/>
          </p:cNvSpPr>
          <p:nvPr>
            <p:ph type="sldNum" idx="6"/>
          </p:nvPr>
        </p:nvSpPr>
        <p:spPr>
          <a:xfrm>
            <a:off x="80406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17C4-E90D-4BF2-B467-7CFA9B3F35FA}"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7" descr="Celestia-R1---OverlayContentSD.png"/>
          <p:cNvPicPr/>
          <p:nvPr/>
        </p:nvPicPr>
        <p:blipFill>
          <a:blip r:embed="rId3"/>
          <a:stretch/>
        </p:blipFill>
        <p:spPr>
          <a:xfrm>
            <a:off x="14400" y="0"/>
            <a:ext cx="9118440" cy="6858000"/>
          </a:xfrm>
          <a:prstGeom prst="rect">
            <a:avLst/>
          </a:prstGeom>
          <a:ln w="0">
            <a:noFill/>
          </a:ln>
        </p:spPr>
      </p:pic>
      <p:sp>
        <p:nvSpPr>
          <p:cNvPr id="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8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86" name="PlaceHolder 3"/>
          <p:cNvSpPr>
            <a:spLocks noGrp="1"/>
          </p:cNvSpPr>
          <p:nvPr>
            <p:ph type="dt" idx="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88" name="PlaceHolder 5"/>
          <p:cNvSpPr>
            <a:spLocks noGrp="1"/>
          </p:cNvSpPr>
          <p:nvPr>
            <p:ph type="sldNum" idx="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A518-B07F-4097-9D84-6F908B682C1C}"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7" descr="Celestia-R1---OverlayContentSD.png"/>
          <p:cNvPicPr/>
          <p:nvPr/>
        </p:nvPicPr>
        <p:blipFill>
          <a:blip r:embed="rId3"/>
          <a:stretch/>
        </p:blipFill>
        <p:spPr>
          <a:xfrm>
            <a:off x="14400" y="0"/>
            <a:ext cx="9118440" cy="6858000"/>
          </a:xfrm>
          <a:prstGeom prst="rect">
            <a:avLst/>
          </a:prstGeom>
          <a:ln w="0">
            <a:noFill/>
          </a:ln>
        </p:spPr>
      </p:pic>
      <p:sp>
        <p:nvSpPr>
          <p:cNvPr id="1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2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28" name="PlaceHolder 3"/>
          <p:cNvSpPr>
            <a:spLocks noGrp="1"/>
          </p:cNvSpPr>
          <p:nvPr>
            <p:ph type="dt" idx="1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30" name="PlaceHolder 5"/>
          <p:cNvSpPr>
            <a:spLocks noGrp="1"/>
          </p:cNvSpPr>
          <p:nvPr>
            <p:ph type="sldNum" idx="1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D0E6-C536-461F-B457-A102A5A0B0B3}"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Picture 9" descr="Celestia-R1---OverlayContentSD.png"/>
          <p:cNvPicPr/>
          <p:nvPr/>
        </p:nvPicPr>
        <p:blipFill>
          <a:blip r:embed="rId3"/>
          <a:stretch/>
        </p:blipFill>
        <p:spPr>
          <a:xfrm>
            <a:off x="14400" y="0"/>
            <a:ext cx="9118440" cy="6858000"/>
          </a:xfrm>
          <a:prstGeom prst="rect">
            <a:avLst/>
          </a:prstGeom>
          <a:ln w="0">
            <a:noFill/>
          </a:ln>
        </p:spPr>
      </p:pic>
      <p:sp>
        <p:nvSpPr>
          <p:cNvPr id="1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6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70" name="PlaceHolder 3"/>
          <p:cNvSpPr>
            <a:spLocks noGrp="1"/>
          </p:cNvSpPr>
          <p:nvPr>
            <p:ph type="dt" idx="1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72" name="PlaceHolder 5"/>
          <p:cNvSpPr>
            <a:spLocks noGrp="1"/>
          </p:cNvSpPr>
          <p:nvPr>
            <p:ph type="sldNum" idx="1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091B-68BE-48A8-B3B9-564496D41A70}"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9" name="Picture 12" descr="Celestia-R1---OverlayContentSD.png"/>
          <p:cNvPicPr/>
          <p:nvPr/>
        </p:nvPicPr>
        <p:blipFill>
          <a:blip r:embed="rId3"/>
          <a:stretch/>
        </p:blipFill>
        <p:spPr>
          <a:xfrm>
            <a:off x="14400" y="0"/>
            <a:ext cx="9118440" cy="6858000"/>
          </a:xfrm>
          <a:prstGeom prst="rect">
            <a:avLst/>
          </a:prstGeom>
          <a:ln w="0">
            <a:noFill/>
          </a:ln>
        </p:spPr>
      </p:pic>
      <p:sp>
        <p:nvSpPr>
          <p:cNvPr id="2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1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12" name="PlaceHolder 3"/>
          <p:cNvSpPr>
            <a:spLocks noGrp="1"/>
          </p:cNvSpPr>
          <p:nvPr>
            <p:ph type="dt" idx="1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4"/>
          <p:cNvSpPr>
            <a:spLocks noGrp="1"/>
          </p:cNvSpPr>
          <p:nvPr>
            <p:ph type="ftr" idx="1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14" name="PlaceHolder 5"/>
          <p:cNvSpPr>
            <a:spLocks noGrp="1"/>
          </p:cNvSpPr>
          <p:nvPr>
            <p:ph type="sldNum" idx="1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77EA-FA9C-4E93-927F-FCF1A3952761}"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1" name="Picture 5" descr="Celestia-R1---OverlayContentSD.png"/>
          <p:cNvPicPr/>
          <p:nvPr/>
        </p:nvPicPr>
        <p:blipFill>
          <a:blip r:embed="rId3"/>
          <a:stretch/>
        </p:blipFill>
        <p:spPr>
          <a:xfrm>
            <a:off x="14400" y="0"/>
            <a:ext cx="9118440" cy="6858000"/>
          </a:xfrm>
          <a:prstGeom prst="rect">
            <a:avLst/>
          </a:prstGeom>
          <a:ln w="0">
            <a:noFill/>
          </a:ln>
        </p:spPr>
      </p:pic>
      <p:sp>
        <p:nvSpPr>
          <p:cNvPr id="2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5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54" name="PlaceHolder 3"/>
          <p:cNvSpPr>
            <a:spLocks noGrp="1"/>
          </p:cNvSpPr>
          <p:nvPr>
            <p:ph type="dt" idx="1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4"/>
          <p:cNvSpPr>
            <a:spLocks noGrp="1"/>
          </p:cNvSpPr>
          <p:nvPr>
            <p:ph type="ftr" idx="2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56" name="PlaceHolder 5"/>
          <p:cNvSpPr>
            <a:spLocks noGrp="1"/>
          </p:cNvSpPr>
          <p:nvPr>
            <p:ph type="sldNum" idx="2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10FE-9AC5-4D51-8FB2-B8227CCFFA1A}"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4" descr="Celestia-R1---OverlayContentSD.png"/>
          <p:cNvPicPr/>
          <p:nvPr/>
        </p:nvPicPr>
        <p:blipFill>
          <a:blip r:embed="rId3"/>
          <a:stretch/>
        </p:blipFill>
        <p:spPr>
          <a:xfrm>
            <a:off x="14400" y="0"/>
            <a:ext cx="9118440" cy="6858000"/>
          </a:xfrm>
          <a:prstGeom prst="rect">
            <a:avLst/>
          </a:prstGeom>
          <a:ln w="0">
            <a:noFill/>
          </a:ln>
        </p:spPr>
      </p:pic>
      <p:sp>
        <p:nvSpPr>
          <p:cNvPr id="2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9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96" name="PlaceHolder 3"/>
          <p:cNvSpPr>
            <a:spLocks noGrp="1"/>
          </p:cNvSpPr>
          <p:nvPr>
            <p:ph type="dt" idx="2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type="ftr" idx="2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98" name="PlaceHolder 5"/>
          <p:cNvSpPr>
            <a:spLocks noGrp="1"/>
          </p:cNvSpPr>
          <p:nvPr>
            <p:ph type="sldNum" idx="2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C562-17AA-4A38-8824-3F323803179A}"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5" name="Picture 11" descr="Celestia-R1---OverlayContentSD.png"/>
          <p:cNvPicPr/>
          <p:nvPr/>
        </p:nvPicPr>
        <p:blipFill>
          <a:blip r:embed="rId3"/>
          <a:stretch/>
        </p:blipFill>
        <p:spPr>
          <a:xfrm>
            <a:off x="14400" y="0"/>
            <a:ext cx="9118440" cy="6858000"/>
          </a:xfrm>
          <a:prstGeom prst="rect">
            <a:avLst/>
          </a:prstGeom>
          <a:ln w="0">
            <a:noFill/>
          </a:ln>
        </p:spPr>
      </p:pic>
      <p:sp>
        <p:nvSpPr>
          <p:cNvPr id="3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3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38" name="PlaceHolder 3"/>
          <p:cNvSpPr>
            <a:spLocks noGrp="1"/>
          </p:cNvSpPr>
          <p:nvPr>
            <p:ph type="dt" idx="25"/>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type="ftr" idx="26"/>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40" name="PlaceHolder 5"/>
          <p:cNvSpPr>
            <a:spLocks noGrp="1"/>
          </p:cNvSpPr>
          <p:nvPr>
            <p:ph type="sldNum" idx="27"/>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C75B-4BCE-4F31-A00C-B5218B684BB3}"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6" name="Rectangle 3" descr=""/>
          <p:cNvPicPr/>
          <p:nvPr/>
        </p:nvPicPr>
        <p:blipFill>
          <a:blip r:embed="rId1"/>
          <a:stretch/>
        </p:blipFill>
        <p:spPr>
          <a:xfrm>
            <a:off x="1268280" y="1255680"/>
            <a:ext cx="8356680" cy="38466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7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7" name=""/>
          <p:cNvGraphicFramePr/>
          <p:nvPr/>
        </p:nvGraphicFramePr>
        <p:xfrm>
          <a:off x="77760" y="1557360"/>
          <a:ext cx="8928000" cy="3924360"/>
        </p:xfrm>
        <a:graphic>
          <a:graphicData uri="http://schemas.openxmlformats.org/drawingml/2006/table">
            <a:tbl>
              <a:tblPr/>
              <a:tblGrid>
                <a:gridCol w="7559640"/>
                <a:gridCol w="268200"/>
                <a:gridCol w="1100160"/>
              </a:tblGrid>
              <a:tr h="7318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Предложения по поправкам</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100" spc="-1" strike="noStrike">
                          <a:solidFill>
                            <a:srgbClr val="000000"/>
                          </a:solidFill>
                          <a:latin typeface="Calibri"/>
                        </a:rPr>
                        <a:t>Сумма изменений</a:t>
                      </a:r>
                      <a:endParaRPr b="0" lang="en-US" sz="11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01400">
                <a:tc gridSpan="3">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 </a:t>
                      </a:r>
                      <a:r>
                        <a:rPr b="1" lang="ru-RU" sz="1500" spc="-1" strike="noStrike">
                          <a:solidFill>
                            <a:srgbClr val="ffffff"/>
                          </a:solidFill>
                          <a:latin typeface="Calibri"/>
                        </a:rPr>
                        <a:t>ДО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03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ДО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Arial"/>
                        </a:rPr>
                        <a:t>727 320</a:t>
                      </a:r>
                      <a:endParaRPr b="0" lang="en-US" sz="16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90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редлагаем увеличить доходную часть бюджета в части безвозмездных поступлений из бюджета УР (дотации, субвенции, субсидии, иные МБТ) на сумму  увеличения  объема межбюджетных трансфертов, прогнозируемых к поступлению в бюджет района в 2019 году из бюджета УР в соответствии с нормативно-правовыми документами Удмуртской Республики о предоставлении указанных средств, (за период с 1 января по 1 апреля 2019 года)</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111 698,2</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11 698,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5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СУММА ДОХОДОВ ПОСЛЕ ВНЕСЕНИЯ ПОПРАВОК</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839 018,2</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768" name="Прямоугольник 4"/>
          <p:cNvGrpSpPr/>
          <p:nvPr/>
        </p:nvGrpSpPr>
        <p:grpSpPr>
          <a:xfrm>
            <a:off x="7723080" y="963720"/>
            <a:ext cx="1219320" cy="322200"/>
            <a:chOff x="7723080" y="963720"/>
            <a:chExt cx="1219320" cy="322200"/>
          </a:xfrm>
        </p:grpSpPr>
        <p:pic>
          <p:nvPicPr>
            <p:cNvPr id="769" name="Прямоугольник 4" descr=""/>
            <p:cNvPicPr/>
            <p:nvPr/>
          </p:nvPicPr>
          <p:blipFill>
            <a:blip r:embed="rId1"/>
            <a:stretch/>
          </p:blipFill>
          <p:spPr>
            <a:xfrm>
              <a:off x="7723080" y="963720"/>
              <a:ext cx="1219320" cy="322200"/>
            </a:xfrm>
            <a:prstGeom prst="rect">
              <a:avLst/>
            </a:prstGeom>
            <a:ln w="0">
              <a:noFill/>
            </a:ln>
          </p:spPr>
        </p:pic>
        <p:sp>
          <p:nvSpPr>
            <p:cNvPr id="770" name=""/>
            <p:cNvSpPr/>
            <p:nvPr/>
          </p:nvSpPr>
          <p:spPr>
            <a:xfrm>
              <a:off x="7740720" y="9763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
        <p:nvSpPr>
          <p:cNvPr id="771" name="Rectangle 2"/>
          <p:cNvSpPr/>
          <p:nvPr/>
        </p:nvSpPr>
        <p:spPr>
          <a:xfrm>
            <a:off x="507960" y="189000"/>
            <a:ext cx="8067600" cy="8157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Предложения по поправкам к бюджету 2019 года</a:t>
            </a:r>
            <a:endParaRPr b="0" lang="en-US" sz="2900" spc="-1" strike="noStrike">
              <a:solidFill>
                <a:srgbClr val="ffffff"/>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
          <p:cNvGraphicFramePr/>
          <p:nvPr/>
        </p:nvGraphicFramePr>
        <p:xfrm>
          <a:off x="22320" y="0"/>
          <a:ext cx="9144000" cy="6754680"/>
        </p:xfrm>
        <a:graphic>
          <a:graphicData uri="http://schemas.openxmlformats.org/drawingml/2006/table">
            <a:tbl>
              <a:tblPr/>
              <a:tblGrid>
                <a:gridCol w="7862760"/>
                <a:gridCol w="1281240"/>
              </a:tblGrid>
              <a:tr h="3862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РАС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РАС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737 32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62784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муниципального Дорожного фонда  в 2019 году на  положительную разницу  между фактически поступившим и прогнозировавшимся объемом доходов  от уплаты акциз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232</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81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неиспользованного остатка ассигнований дорожного фонда по состоянию  на 01.01.2019 года</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 075,3</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515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возврата в бюджет района в 2019 году неиспользованных  на 01.01.2018 года остатков  межбюджетных трансфертов, предоставленных поселениям на дорожную деятельность</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3,1</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76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культуры, спорта и молодежи на сумму неиспользованного остатка на 01.01.2019 от безвозмездных поступлений от юридических лиц на проведение мероприятий среди молодежи и подрост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3</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5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образования на сумму подтвержденного Министерством образования УР неиспользованного остатка на 01.01.2019 от целевых  поступлений из бюджета УР  на проведение мероприятий по повышению квалификации педагогических работни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7</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8344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тся учесть в  объеме бюджетных ассигнований, расходы бюджета, осуществляемые за счет  безвозмездных поступлений из бюджета УР, имеющих целевое назначение, полученных сверх объемов, утвержденных решением о бюджете и направленных на расходы в ходе исполнения бюджета без внесения изменений в решение о бюджете в соответствии с п.3 статьи 217 БК РФ  (субвенции, субсидии, иные)</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11 698,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9165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уменьшения остатков (собственные) на счете бюджета по состоянию на 1 января 2019 года и направить их на  расходы по приобретению жилья по решению суда, приобретению спортивной формы, подготовку объектов коммунальной инфраструктуры к зимнему периоду, вывоз мусора, поддержку инициативного бюджетирования, поощрение муниципальных образований по итогам годового мониторинга за 2018 год</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 00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6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привлечения кредита от кредитной организации на проведение капитального ремонта (окна, крыши) учреждений образования и культуры</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0 500,6</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6360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28 60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427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СУММА РАСХОДОВ ПОСЛЕ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65 920,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bl>
          </a:graphicData>
        </a:graphic>
      </p:graphicFrame>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3" name=""/>
          <p:cNvGraphicFramePr/>
          <p:nvPr/>
        </p:nvGraphicFramePr>
        <p:xfrm>
          <a:off x="324000" y="907920"/>
          <a:ext cx="8569080" cy="5143680"/>
        </p:xfrm>
        <a:graphic>
          <a:graphicData uri="http://schemas.openxmlformats.org/drawingml/2006/table">
            <a:tbl>
              <a:tblPr/>
              <a:tblGrid>
                <a:gridCol w="7511760"/>
                <a:gridCol w="1057320"/>
              </a:tblGrid>
              <a:tr h="89064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Calibri"/>
                        </a:rPr>
                        <a:t>ИСТОЧНИКИ ФИНАНСИРОВАНИЯ ДЕФИЦИТА БЮДЖЕТА</a:t>
                      </a:r>
                      <a:endParaRPr b="0" lang="en-US" sz="2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cd8bd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31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ff0000"/>
                          </a:solidFill>
                          <a:latin typeface="Times New Roman"/>
                          <a:ea typeface="Times New Roman"/>
                        </a:rPr>
                        <a:t>БАЛАНС ("-" ДЕФИЦИТ; "+" ПРОФИЦИТ)</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26 9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442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дефицита бюджета </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0 000</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8157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собственн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6 390,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целев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1</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747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лучение кредитов от кредитных организаций</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36 300</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кредитов от других бюджетов бюджетной системы</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 25 799,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bl>
          </a:graphicData>
        </a:graphic>
      </p:graphicFrame>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179280" y="1413000"/>
          <a:ext cx="8785440" cy="4706640"/>
        </p:xfrm>
        <a:graphic>
          <a:graphicData uri="http://schemas.openxmlformats.org/drawingml/2006/table">
            <a:tbl>
              <a:tblPr/>
              <a:tblGrid>
                <a:gridCol w="5091120"/>
                <a:gridCol w="3694320"/>
              </a:tblGrid>
              <a:tr h="15793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БЮДЖЕТ МУНИЦИПАЛЬНОГО ОБРАЗОВАНИЯ «МОЖГИНСКИЙ РАЙОН»</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2019 год</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r>
              <a:tr h="65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О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39 018,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ee9"/>
                    </a:solidFill>
                  </a:tcPr>
                </a:tc>
              </a:tr>
              <a:tr h="6508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Times New Roman"/>
                          <a:ea typeface="Times New Roman"/>
                        </a:rPr>
                        <a:t>в том числе за счет за счет поступления безвозмездных поступлений</a:t>
                      </a:r>
                      <a:endParaRPr b="0" lang="en-US" sz="1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ea typeface="Arial"/>
                        </a:rPr>
                        <a:t>633 248,2</a:t>
                      </a:r>
                      <a:endParaRPr b="0"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r h="10270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РАС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65 92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ee9"/>
                    </a:solidFill>
                  </a:tcPr>
                </a:tc>
              </a:tr>
              <a:tr h="796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ЕФИЦИТ(-)</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26 9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bl>
          </a:graphicData>
        </a:graphic>
      </p:graphicFrame>
      <p:sp>
        <p:nvSpPr>
          <p:cNvPr id="775" name="Rectangle 2"/>
          <p:cNvSpPr/>
          <p:nvPr/>
        </p:nvSpPr>
        <p:spPr>
          <a:xfrm>
            <a:off x="565200" y="144360"/>
            <a:ext cx="8066160" cy="81612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Уточненные параметры бюджета на 2019 год</a:t>
            </a:r>
            <a:endParaRPr b="0" lang="en-US" sz="2900" spc="-1" strike="noStrike">
              <a:solidFill>
                <a:srgbClr val="ffffff"/>
              </a:solidFill>
              <a:latin typeface="Arial"/>
            </a:endParaRPr>
          </a:p>
        </p:txBody>
      </p:sp>
      <p:grpSp>
        <p:nvGrpSpPr>
          <p:cNvPr id="776" name="Прямоугольник 7"/>
          <p:cNvGrpSpPr/>
          <p:nvPr/>
        </p:nvGrpSpPr>
        <p:grpSpPr>
          <a:xfrm>
            <a:off x="7759800" y="841320"/>
            <a:ext cx="1218960" cy="322200"/>
            <a:chOff x="7759800" y="841320"/>
            <a:chExt cx="1218960" cy="322200"/>
          </a:xfrm>
        </p:grpSpPr>
        <p:pic>
          <p:nvPicPr>
            <p:cNvPr id="777" name="Прямоугольник 7" descr=""/>
            <p:cNvPicPr/>
            <p:nvPr/>
          </p:nvPicPr>
          <p:blipFill>
            <a:blip r:embed="rId1"/>
            <a:stretch/>
          </p:blipFill>
          <p:spPr>
            <a:xfrm>
              <a:off x="7759800" y="841320"/>
              <a:ext cx="1218960" cy="322200"/>
            </a:xfrm>
            <a:prstGeom prst="rect">
              <a:avLst/>
            </a:prstGeom>
            <a:ln w="0">
              <a:noFill/>
            </a:ln>
          </p:spPr>
        </p:pic>
        <p:sp>
          <p:nvSpPr>
            <p:cNvPr id="778" name=""/>
            <p:cNvSpPr/>
            <p:nvPr/>
          </p:nvSpPr>
          <p:spPr>
            <a:xfrm>
              <a:off x="7775640" y="8557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6:47:21Z</dcterms:created>
  <dc:creator>User</dc:creator>
  <dc:description/>
  <dc:language>en-US</dc:language>
  <cp:lastModifiedBy>Жвакина</cp:lastModifiedBy>
  <cp:lastPrinted>2016-11-11T10:35:51Z</cp:lastPrinted>
  <dcterms:modified xsi:type="dcterms:W3CDTF">2019-04-02T08:02:27Z</dcterms:modified>
  <cp:revision>671</cp:revision>
  <dc:subject/>
  <dc:title>Слайд 1</dc:title>
</cp:coreProperties>
</file>